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4E1-7F9B-409B-AB0B-985B85F0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F4D-BF90-4D41-9CC7-7F648D26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B04-721A-4861-8D77-B6F9D35D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0CD-4F2B-4BB2-AEF0-9F673562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9267-E38C-4F86-ACDD-7355EFC6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8D55-6205-4537-BE48-A727120A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C8D-6FF4-43B5-9FA8-7291AF2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FDC8-723C-4238-B201-7C6AAD3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F83F-ED20-448E-ABDB-373DAA11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2CB9-0BE8-4870-9EA5-B863BAB7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030E-246F-44FA-86D6-EA47766E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FA8-D4FA-4E42-9A53-72F10B6B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E05-1DA4-4B3E-8695-2727EAC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E6A2-93FE-4DEC-8002-C3D01A8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EEA-2C70-4801-AFE1-40B3D090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B1EE-D88D-4F5D-A8BC-712A0488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03D-A5CC-41E7-BE6C-2633B498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F10-7DDB-42B6-9BE1-CE704BC3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F2C-70A7-45A7-A398-4BBD28A0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2DF-6D34-45EE-82BF-8F405DF6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7A7-7818-4498-B13B-D74528FF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92A-4647-4D5F-8FE3-E07E642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881-BBC7-43B1-BD6E-110CD6A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E1A-164B-47B4-A0B8-227EEE2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FE45-85B9-4FC2-8E3C-7308BB9172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744A-E92E-4B9D-8170-7E69F2454F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write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 description you could try some of the following techniques in your writing.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Unusual featur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p or scar can tell a story behind  a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ross his hand lay a jagged s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djectives to describ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djectives to describe the physical details of a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scaly, wrinkled nose sniffed the 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uns to fit the personality of the charac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thes, particularly need to match the personality of the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uffy, torn trous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esting 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kes the writing better with imaginative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athery,crink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gative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ailing what is not there is an effective way of making a reader aware of what a character may la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had no jacket, no shoes, no umbrella and no s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ream of conscious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someone is thinking. Saying things that are in a character’s head alou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ve got to decide…. but I can’t….. what shall I d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Movemen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ay a character moves gives much away about their personality or feel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ers hunched, feet dragging he shuffled towards the darkened windows of ho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something IS something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ucepan eyes glared at hi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im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comparison to add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knees shook like twanged guitar  str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inistry of Education</cp:lastModifiedBy>
  <cp:lastPrinted>2009-04-22T19:24:48Z</cp:lastPrinted>
  <dcterms:modified xsi:type="dcterms:W3CDTF">2011-04-26T02:25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